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71F-6047-4E99-A126-47D061D1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202-1E27-4FE1-AC2F-6EABA567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C58-0D48-45C6-ABFB-0D035034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99F-3AA3-4390-8098-834C714D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444E-1AB8-4C1F-BD09-60B9057B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0CD-4D26-4B99-A5FA-B146467F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802F-D9F7-460D-938D-D3EF8146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6E9-D8B3-43D1-BF29-9747651F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DAA-D6EE-4CF5-BC84-B8CEF20B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AAC-38F2-4852-AEF3-40EC899C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D0E-0021-4CFA-9B61-949CF80E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D0F-C207-4589-B68B-21EDB4DC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4482-B0E4-4FF9-A653-994D8BF4E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usick8.com/rkdojo/rkdojo.php" TargetMode="External"/><Relationship Id="rId2" Type="http://schemas.openxmlformats.org/officeDocument/2006/relationships/hyperlink" Target="http://www.musick8.com/rkdojo/rkchart.php" TargetMode="External"/><Relationship Id="rId3" Type="http://schemas.openxmlformats.org/officeDocument/2006/relationships/hyperlink" Target="http://www.musick8.com/rkdojo/rksounds.php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to Recorder Ka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rkgr1bk"/>
          <p:cNvPicPr/>
          <p:nvPr/>
        </p:nvPicPr>
        <p:blipFill>
          <a:blip r:embed="rId1"/>
          <a:stretch/>
        </p:blipFill>
        <p:spPr>
          <a:xfrm>
            <a:off x="1371600" y="3200400"/>
            <a:ext cx="2857680" cy="3295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rkgr3wg"/>
          <p:cNvPicPr/>
          <p:nvPr/>
        </p:nvPicPr>
        <p:blipFill>
          <a:blip r:embed="rId2"/>
          <a:stretch/>
        </p:blipFill>
        <p:spPr>
          <a:xfrm>
            <a:off x="5486400" y="3124080"/>
            <a:ext cx="1782720" cy="3286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05520" cy="4996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at What I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3301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1828800" y="2743200"/>
            <a:ext cx="3276720" cy="1219320"/>
          </a:xfrm>
          <a:prstGeom prst="rect">
            <a:avLst/>
          </a:prstGeom>
          <a:noFill/>
          <a:ln w="127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ra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33019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410080" y="2743200"/>
            <a:ext cx="3276720" cy="1219320"/>
          </a:xfrm>
          <a:prstGeom prst="rect">
            <a:avLst/>
          </a:prstGeom>
          <a:noFill/>
          <a:ln w="127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r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3301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914400" y="3809880"/>
            <a:ext cx="4267080" cy="1219320"/>
          </a:xfrm>
          <a:prstGeom prst="rect">
            <a:avLst/>
          </a:prstGeom>
          <a:noFill/>
          <a:ln w="127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ra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33019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5257800" y="3809880"/>
            <a:ext cx="3276720" cy="1219320"/>
          </a:xfrm>
          <a:prstGeom prst="rect">
            <a:avLst/>
          </a:prstGeom>
          <a:noFill/>
          <a:ln w="127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ra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3301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hole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70120" y="25560"/>
            <a:ext cx="7403760" cy="4775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324480" y="3657600"/>
            <a:ext cx="243540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870120" y="0"/>
            <a:ext cx="7403760" cy="5486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5867280" y="3695760"/>
            <a:ext cx="3013200" cy="316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273400" y="0"/>
            <a:ext cx="7404120" cy="5359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2222280" cy="445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der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your recorder &amp; case with a permanent ma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playing wipe the inside of your recorder with a pipe cleaner. This will keep disgusting things from growing in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wash your recorder in the dishwasher or warm soapy water, once in a whil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ke sure you take your belts off fir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recorder in your case when you are not play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2133720"/>
            <a:ext cx="1828800" cy="431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663560" y="0"/>
            <a:ext cx="740412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s for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er Karate D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usick8.com/rkdojo/rkdojo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gering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usick8.com/rkdojo/rkchart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usick8.com/rkdojo/rksounds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name is “karate.” See Mrs. White for the pass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ding the Rec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52320" y="1218960"/>
            <a:ext cx="5334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Hand (LH)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mb covers hole on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gers cover top 3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use pin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Hand (RH) on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mb on back to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gers cover bottom four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 holes completely with pads of fi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gers slightly cu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 recorder at 4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gle (toward kn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517680" y="990720"/>
            <a:ext cx="2733480" cy="586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ing in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14440" y="12949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thpiece on bottom lip in front of bottom tee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bite on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ip in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down gently with upper 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“mmmm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the through 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open &amp; close mouth as you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rkgr11gwr"/>
          <p:cNvPicPr/>
          <p:nvPr/>
        </p:nvPicPr>
        <p:blipFill>
          <a:blip r:embed="rId1"/>
          <a:stretch/>
        </p:blipFill>
        <p:spPr>
          <a:xfrm>
            <a:off x="457200" y="1828800"/>
            <a:ext cx="3327480" cy="350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wing into the Mouthpi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ly, steady air stream, not too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w like steaming up a car window, with no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air straight out, no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rkgr6bwfu"/>
          <p:cNvPicPr/>
          <p:nvPr/>
        </p:nvPicPr>
        <p:blipFill>
          <a:blip r:embed="rId1"/>
          <a:stretch/>
        </p:blipFill>
        <p:spPr>
          <a:xfrm>
            <a:off x="533520" y="1600200"/>
            <a:ext cx="228276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nguing or “Articulati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gue is valve that stops and releases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gue touches roof of mouth to stop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gue releases down to let ai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saying the word “t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 notes with and without tonguing to discover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rkgr12gwro"/>
          <p:cNvPicPr/>
          <p:nvPr/>
        </p:nvPicPr>
        <p:blipFill>
          <a:blip r:embed="rId1"/>
          <a:stretch/>
        </p:blipFill>
        <p:spPr>
          <a:xfrm>
            <a:off x="152280" y="2209680"/>
            <a:ext cx="2857680" cy="299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ea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eaks are caused by 2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wing too hard (steamy window tri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ks (check for circles on pads of fing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rkgr13gwrih"/>
          <p:cNvPicPr/>
          <p:nvPr/>
        </p:nvPicPr>
        <p:blipFill>
          <a:blip r:embed="rId1"/>
          <a:stretch/>
        </p:blipFill>
        <p:spPr>
          <a:xfrm>
            <a:off x="457200" y="1447920"/>
            <a:ext cx="1995480" cy="47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992840" cy="5029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249640" y="1447920"/>
            <a:ext cx="498924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6:35:41Z</dcterms:created>
  <dc:creator>Christine White</dc:creator>
  <dc:description/>
  <dc:language>en-US</dc:language>
  <cp:lastModifiedBy>Christine White</cp:lastModifiedBy>
  <cp:lastPrinted>2010-09-21T19:06:08Z</cp:lastPrinted>
  <dcterms:modified xsi:type="dcterms:W3CDTF">2010-09-21T19:06:16Z</dcterms:modified>
  <cp:revision>24</cp:revision>
  <dc:subject/>
  <dc:title>Intro to Recorder Karate</dc:title>
</cp:coreProperties>
</file>